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4EF8-EA21-41B7-A15F-76F561AA8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F73E-E298-4245-B076-E473C4524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758A-E98E-4433-8B45-77B31C51D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BFBA-C7D6-4AAB-A19B-E03F1AE60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8FFE-D38E-476D-A306-DA96DAFFD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006A-653C-4766-84B6-9AEEA6E6C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F3F6-D054-4BEC-9321-658A9D10E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CC08-C108-4CBA-B92A-A7CD83498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BC4A-5EC8-4E3E-8244-CE81E1156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8CFF-88E6-4774-9A4F-1AF2412C9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8D49-85F3-4A53-8644-A98F95985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A95F-E3C5-4202-82ED-48BA2B27A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EA77D-9931-42B7-899A-54131481C9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4.jpeg"/><Relationship Id="rId14" Type="http://schemas.openxmlformats.org/officeDocument/2006/relationships/image" Target="../media/image4.jpeg"/><Relationship Id="rId15" Type="http://schemas.openxmlformats.org/officeDocument/2006/relationships/image" Target="../media/image4.jpeg"/><Relationship Id="rId16" Type="http://schemas.openxmlformats.org/officeDocument/2006/relationships/image" Target="../media/image4.jpeg"/><Relationship Id="rId1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62120" y="228600"/>
            <a:ext cx="7867440" cy="8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Goudy Stout"/>
              </a:rPr>
              <a:t>The Extreme Smoothie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Goudy Stout"/>
              <a:ea typeface="Goudy Stou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90720" y="1066680"/>
            <a:ext cx="7162560" cy="4876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 rot="1766400">
            <a:off x="3962160" y="3276720"/>
            <a:ext cx="11430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Goudy Stout"/>
              </a:rPr>
              <a:t>$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Goudy Stout"/>
              <a:ea typeface="Goudy Stou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8286840" y="1295280"/>
            <a:ext cx="857160" cy="8575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4191120" y="579132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152280" y="5791320"/>
            <a:ext cx="857520" cy="8571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0" y="3352680"/>
            <a:ext cx="857160" cy="85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0" y="114300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8077320" y="579132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8286840" y="3352680"/>
            <a:ext cx="857160" cy="8575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8153280" y="2286000"/>
            <a:ext cx="990720" cy="762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>
            <a:off x="8153280" y="4419720"/>
            <a:ext cx="990720" cy="761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3"/>
          <a:stretch/>
        </p:blipFill>
        <p:spPr>
          <a:xfrm>
            <a:off x="6095880" y="5943600"/>
            <a:ext cx="990720" cy="7621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4"/>
          <a:stretch/>
        </p:blipFill>
        <p:spPr>
          <a:xfrm>
            <a:off x="2209680" y="5943600"/>
            <a:ext cx="990720" cy="762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5"/>
          <a:stretch/>
        </p:blipFill>
        <p:spPr>
          <a:xfrm>
            <a:off x="0" y="4419720"/>
            <a:ext cx="990720" cy="7617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6"/>
          <a:stretch/>
        </p:blipFill>
        <p:spPr>
          <a:xfrm>
            <a:off x="0" y="2209680"/>
            <a:ext cx="9907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15:35:47Z</dcterms:created>
  <dc:creator>SAISD</dc:creator>
  <dc:description/>
  <dc:language>en-US</dc:language>
  <cp:lastModifiedBy>SAISD</cp:lastModifiedBy>
  <dcterms:modified xsi:type="dcterms:W3CDTF">2010-04-14T16:23:18Z</dcterms:modified>
  <cp:revision>2</cp:revision>
  <dc:subject/>
  <dc:title>Slide 1</dc:title>
</cp:coreProperties>
</file>